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71C3-F921-4F6E-AAF9-ACAD2F307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the maternals end up on one side of the cell and the paternals on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= 46-23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ew cell contains one chromosome from each homologous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ch new cell contains 2 copies of the chromosome because the original cell copies its DNA before meiosis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8-12 on page 1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fission in unicellular orgs, budding in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D14-03C1-4973-948E-8C429FA1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40A-AC9D-40FB-8D97-ED5FF88D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45E-F37C-4B7B-B138-7360E28C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864-F854-4E7B-9080-AB423B34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C43-B3B4-494C-A132-E3A8AEAB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35D-1F43-4C02-BBD3-9C97BD99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76D-E3DE-4C86-B754-808C3F5E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CA3-FA14-46AA-80CF-5AEF4CB6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560-7D44-4385-B504-0D3F17CB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05B-2717-40C3-82ED-78F8E4B2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96C-3356-4A6A-BB38-27AD56AD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620-23A2-4FDC-88A0-62281EF7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4080-1F37-43FC-B14D-159581D5E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-Now: Review from M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man body cell has 46 chromosomes. In a human body cell, mitosis produ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two cells with 46 chromosomes in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two cells with 23 chromosomes in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four cells with 23 chromosomes in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four cells with 46 chromosomes in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ilarities to Mitos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ils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 fibers ar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Membrane break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s from M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 pair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mologous chromosomes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of chromosomes (1 from mother and 1 from father) that have the same genes (ex: gene for eye col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ase I: Crossing 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ossing o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homologous chromosomes “trade”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tic Re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tr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i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crossing over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s genes so that offspring look different from either parent and from their sibling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297180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ing 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575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tra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up in the middle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 fibers attach to the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, Centromere, Spindle, Metaphase P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059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510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 move to opposite ends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, spi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38680" y="2022480"/>
            <a:ext cx="32767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phase I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572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s reach opposite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toplasm di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d Res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 daughter cells with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al chromosom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e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ar membrane, centrioles,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37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pied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romat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dentical copies of DNA) separate like they do during m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 S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ro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Met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Telophase II and Cytoki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72200" cy="3965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Result of Meiosis: 4 haploid daughte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itosis,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ent body 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vides to m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daughter body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aughter cells are diploid…have two sets of chromosomes (46 total in huma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one blood cell divides to make two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429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membrane break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 is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membrane, spindle,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171880"/>
            <a:ext cx="33526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pindle fi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e chromosomes to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s, Chromatids, Centromere, Spindle, Metaphase P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092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hromat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ach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hromoso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at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entrom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ove toward opposite ends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e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hromosomes, Spind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475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phase II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ind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s 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uncoil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clear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elope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ytopla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Membrane, Centrioles, Uncoiling Chromosomes (chromat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2989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Goal: Making Sex Cel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amet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oductive cells made during meiosis (ex: sperm and 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 cells are made in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st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va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3200400" cy="2536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324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rmat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220932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making sperm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loid cell divides by meiosis to form four haploi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rmat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making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ploid cell divides by meiosis to mak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ure egg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hree haploid cells =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la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557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g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all the cytoplasm and organelles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lar bod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iny little structures with DN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 bodies break down and di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LO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made in mit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2362320"/>
          <a:ext cx="8381880" cy="3590640"/>
        </p:xfrm>
        <a:graphic>
          <a:graphicData uri="http://schemas.openxmlformats.org/drawingml/2006/table">
            <a:tbl>
              <a:tblPr/>
              <a:tblGrid>
                <a:gridCol w="3505320"/>
                <a:gridCol w="2361960"/>
                <a:gridCol w="2514600"/>
              </a:tblGrid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s of Chromos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# of chromosomes in hum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C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cell (ex, blood cell, bone cel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 cell (sperm or egg cel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iosis- A New Type of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191120" cy="314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1600200"/>
            <a:ext cx="428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meiosis, new SEX CELLS (eggs and sperm) ar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Eggs and sperm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pl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eaning they have one set of chromosomes (23 total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715000"/>
            <a:ext cx="860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y might it be a problem for sex cells to b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ploi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where the nucleus divides that splits the original chromosomes into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plo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ughte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Body Cell =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 or Sperm Cell =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... so that chromosome number won’t be doubled during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Poi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iosis makes fertilization possibl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exual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offspring (children) that are identical to the parent (ex: binary fission in bacteria or “budding” in spon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  Sexual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offspring that are different from the parent, meiosis happens and then sperm and egg jo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3809880" cy="261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28101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 meiosis begins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1, S, G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during each part of interphase?  Is this considered part of cell divi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Mei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Meiosis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Me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19720" y="3105000"/>
            <a:ext cx="4190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the Cell Cyc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029200" cy="5002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86400" y="2057400"/>
            <a:ext cx="320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iosis uses the same cycle as mitosis, except meiosis happens in 2 par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hase must still happen so the cell can grow, copy its DNA, and prepare for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 number gets cut in ha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 diploid cel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 haploid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roph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Metaph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ph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Teloph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7:27:59Z</dcterms:created>
  <dc:creator>Kate</dc:creator>
  <dc:description/>
  <dc:language>en-US</dc:language>
  <cp:lastModifiedBy>Kate</cp:lastModifiedBy>
  <dcterms:modified xsi:type="dcterms:W3CDTF">2011-12-27T23:55:13Z</dcterms:modified>
  <cp:revision>10</cp:revision>
  <dc:subject/>
  <dc:title>Meiosis</dc:title>
</cp:coreProperties>
</file>